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0C9-9088-4F12-BDCB-A7832F91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CC7-61E7-4036-9920-540B5C86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B4DDF-B1AC-491F-9404-5A9B3F6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FC688-DA69-4B7E-8AD3-9965556C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4343F-22FA-40F6-AFA9-46AB9517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A9A7A-B897-4964-97F0-4C752751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843BC-1AAA-4C5C-AB7F-FA4CB4A4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FA9AC-B5CA-4BD0-AE5B-FC424D7E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CC38F-5EE7-4E2F-A288-E637DAF6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A467A-FECA-4EE4-A265-973F7351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58C1C-5E2D-4279-84D9-F5F318AD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D8FFA-7BB1-4666-8806-0BD4E7CA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328-F670-45C2-92BE-BD65C133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25B49-8CA8-4D50-95BB-88E4DBDE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1412C-DA65-447F-9286-7B32107A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351CA-329F-4172-BFE2-8358ADBB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27611-B8CD-4020-A611-5E3651B2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354F2-16FC-4806-AB52-B2011476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1707D-D027-4ABA-89A0-E5E44E90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FAFBC-6FBD-4BEF-966C-5F46A302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C7053-0A4A-4D10-916C-D549BBD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EED4F-4F4D-4603-A859-2F9B3CB6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EBC00-742F-4200-AB96-78C5087C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2AE-A2D6-4310-9FC9-1C50F2D4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31EE8-BA17-43C6-BFD8-5021739E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4A7CE-E626-44B0-A844-4D45952D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13B44-036C-4AFF-A718-9DBADA58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58BF2-84EF-4DB2-9ACD-1DC9A04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ABC9D-CFDA-4A9E-B0B8-DADF435A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F4658-0766-444F-B75F-1ADFBC1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6C52-7794-46E8-90CF-2366D892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CCC9A-A0F6-43D8-9971-DD2FBEBA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B8691-064A-4E8A-8B96-BA56F61C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4E2D4-4F07-4030-B7E6-F0865836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C1F9-AFB2-4C66-874A-A75696D4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BE811-ABBB-447C-8434-5433895A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3E16B-5F5D-43FC-B1A4-04D2649C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42249-E968-43E9-ABEE-B4889517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F07B9-02AB-41A8-8E50-57D7E802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FDF14-B047-442B-AB4A-0E7D2CC1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170236-CBB5-4EA1-9EEE-94FB87F8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B4682-7F2D-41AA-9DCB-8E17E932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C498B-9B13-4609-A6A0-547C8D30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B42E8-966A-4581-8C69-31EC84EA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6D48B-300D-4D8E-8E3A-AC8760DC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FD38-2403-44F1-93E5-D2063D3A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A2F8D-13E0-4B88-BEB8-3B96532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10CF8-B761-4817-96C2-82242C6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1F700-915F-4277-AFAF-8E79AC4E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FCACB-DBE9-4956-9D06-30333B08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80C86-93D3-4480-999D-D5B334C8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3ECDC-BD4E-4FF2-82B9-5D27CE8C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5600C-553B-4012-AC8A-51AF284C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A8FEEA-3CD5-4DEA-829B-3989DA9C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1CAF2-6546-4060-8564-DD927325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329A9-DFAC-43A2-9F2C-EB969163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83AC-E0A1-40F9-8406-96682312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7B204-2CE9-42B2-AB32-AD2CCFBC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9CB00-6B76-48C4-8181-652952C2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8053F-3A04-4F06-A20B-5E1956E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2DF4E-642E-467C-A92B-DB24C55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7AE49-0F6D-4D37-8837-7B81092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0209A4-E49C-4EB3-AC1F-F29AB954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7E2D5-43E2-4466-B1E2-E7C07D2D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3AC5-DE69-4DA4-8CAB-0F964406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7521-75C5-4913-9E31-3099B020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9A9F-8066-4352-BCDF-5535D3EA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300D-AED2-4D90-A936-6C6D790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5704-2097-4C42-9B63-81A3E170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841B-2019-48C2-80BD-94CF32EC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C3AE-4A13-433E-A4B1-A4DC728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AE51-D20D-4B44-B0A1-73400592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3645-1C1C-4FA7-8F46-7F29D8A9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44FF-9E32-4EEC-B088-9637A161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61E6E-950E-436C-B5F8-19804B85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CC556-C270-48E9-A9E9-416E64B0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4EB46-727F-4D4B-AA11-AF4AF13E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D7CF9-0182-445E-8618-793865B5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FF37-87B2-4CE8-A0A8-AFE335E2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664-BD5F-47E4-96F7-2ADAB14D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C2E7A-C800-4853-A587-66A2F742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40DC-977D-4D84-A6AB-93A69C2E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C167-67C7-4E2B-9F36-196DEE2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8F19-726F-4A17-8E9A-0E447BD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F61B7-70B6-4A46-8E53-AEBF16A6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D1E9-A2CD-466D-88A4-93EF7C69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273C-B8FF-41F6-B596-837C5A3C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93F7-7597-4E78-8F8B-9C166D74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E8F70-C4B4-4C14-88E3-2BE27092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8C9D-2752-4290-8173-727FCBA3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53C-D857-43B6-BC01-50C31ACC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68DAA-792E-462B-BF3E-0E8F3DB9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E8785-3E99-4117-AC87-25F6DEBE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A2A5-780F-48BF-8C86-8FE5A934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1522-A8F1-4344-A46F-7CE13F91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9EDA-C1E8-4D45-9BBD-1795FC23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FD694-DE81-43F4-9642-58DC395F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500B3-27BE-458F-AD11-809E6AB0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3CD6B-92DA-4EBC-88C4-55894479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84A1-B9A2-437E-8551-EE0393BA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6503-E8BC-4EEA-9223-8394490D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577-3E03-44F3-9C36-48A7FEA8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2CC62-AE24-4DE6-8DBA-53EDEF1C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A9419-0E57-4174-A772-6C347DF2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FC8F0-F904-4802-8552-8CEF138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EFE9D-6098-45F7-9FE8-3FE27F1A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84F0-BAE9-472E-A3DD-EE977FA4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A2C1E-985B-471A-B84A-74462E31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6F844-5D1C-4C57-A4EF-EF562751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665F-C9C2-4068-8AA0-F0D13F8B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08C6A-F1F8-4D85-AC27-B6797E15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6CA9-C2EA-4575-AE79-3CD71D00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DA9-897B-482E-A3C8-03901130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C3BDB-B65A-4ACB-967F-5E9F6174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F3572-D6D7-47D3-B42A-4356FC8C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1188-3337-4668-9929-1A47D5AD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07625-7832-4373-BF06-691867E6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C4CDB-AC4C-43AD-9620-6E8B58B1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4D5C4-CC03-401A-A2B8-6F266939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ABB7-FE3D-4C91-AA3A-7B9CDDDF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E630-C7D0-46FD-811E-2A376925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32ED-E308-4063-9DAD-7A5F8162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B3BE-A84F-418D-A2C9-AC53C1B0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FCA6-0FA2-45A7-9A43-3E82C3A0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7C043-5D98-4BF5-B84C-655F51F2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4DC4-3356-422E-AD88-032696D4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2EBAA-9717-4535-990A-7EAC8843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CF64E-EA5F-4013-A2C4-1A5BA86B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05B2-DDD9-4BFE-87BC-EF5F9982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D6E54-1B94-4CF6-86D5-27CAC29A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ED9E3-3EC7-4849-8C0E-8F197BEA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6EB53-1F88-47A5-A60F-AC141BD2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BC6CE-755F-4AE9-9F9A-5B425912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EBC74-D90C-4969-AF20-A3B72794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FEF7-96F2-423B-98CF-8DFEF411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3CDBF-56C2-4DDF-83B1-773ADFED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F7A2F-7F06-4723-AC0A-77FAADF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CE5BF-5B3D-43A7-AA3C-2732816C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6CE8-6858-4E94-A38E-78D7CFAA8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2DD8-2B5A-4AD5-8DD3-E652AC15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6E71A-74EF-421B-86DB-C17D7072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D3A82-4B82-4434-9CEC-42266AFD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A6141-05AE-4DB5-884B-31A96B4F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666AB-92A7-4ECA-9B3B-5594802D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C6030-2192-4D86-A422-407E07AF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51C-DCDD-4DE4-8968-3B9F567A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F655A-FD44-4EA2-BB06-77304AE6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132B-A5CD-4559-ABEB-C7731851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00FCC-BCA6-458D-B5C2-D62D341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62AD5-539C-4762-ADE6-11BCC637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05975-70BD-4F25-88AF-4CDA72D8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83160-FF96-4764-8382-48030AD6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22C3B-E6BC-4D57-9CE2-090F9D79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AF5FA0-45EC-4056-8463-D1780870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7AF1B-B1A3-4CE8-B196-F44011B3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8289-B521-4C77-9A90-0B9C6B62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2AB0-008B-4677-B24B-13FD2AD91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C10-4C71-4E22-8EFD-3940DAC67FD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9A54-C0E6-4EAA-982C-16C6C16E2D7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3305-FD08-411C-AD2A-387CAD2E59A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700" name="Straight Connector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Straight Connector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Straight Connector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Group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704" name="Straight Connector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Straight Connector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708" name="Straight Connector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Straight Connector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Straight Connector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37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38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39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2E58-5463-4AE7-88D7-AC6E610DBF9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DF8C-0802-4205-8976-7A149B7399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5EA9-F1FE-4013-A023-C60BA41B4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8ADD-2558-4E38-B636-375BB582A1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7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8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8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9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0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0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0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1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CF27-D8E6-4C88-8458-13A34DA2D50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F174-0343-4F30-9120-6F1C3AC150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72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7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82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86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69F5-1906-4818-A143-9C78B63955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B001-ABA1-49E6-A68C-34BB6D94B13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C03D-ACDE-4CD3-8DDF-3565C32E1ED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cientific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99072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Scientists use scientific method to gather info and solve problem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Hypothesis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 is a testable explanation for a question or proble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NOT an educated gues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Steps of Scientific Metho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1)  State a problem, make an observatio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2)  Form a hypothe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3)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Test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 the hypothes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Do an experimen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2 groups in an experimen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-285840"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)  Control—kept the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rbel"/>
              </a:rPr>
              <a:t>same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, is constan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b)  Variable—part that change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Independent variable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—in controlled experiment, the one that is changed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x.  Salt concentratio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17480" indent="-277200">
              <a:spcBef>
                <a:spcPts val="901"/>
              </a:spcBef>
              <a:buClr>
                <a:srgbClr val="ea157a"/>
              </a:buClr>
              <a:buSzPct val="9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orbel"/>
              </a:rPr>
              <a:t>Dependent variable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—results from the chang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Ex.  Growth of gras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-Gather 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data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 during experimen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4)  Analyze your result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5)  Draw conclusion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Theory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 is supported by eviden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any trials must be repeated for thi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685800" y="22860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Corbel"/>
              </a:rPr>
              <a:t>Law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 is proven over tim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x.  Newton’s Law of Gravity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push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23:35:17Z</dcterms:created>
  <dc:creator>Alicia Arangio</dc:creator>
  <dc:description/>
  <dc:language>en-US</dc:language>
  <cp:lastModifiedBy>Alicia Arangio</cp:lastModifiedBy>
  <dcterms:modified xsi:type="dcterms:W3CDTF">2009-08-02T23:41:08Z</dcterms:modified>
  <cp:revision>1</cp:revision>
  <dc:subject/>
  <dc:title>Scientific Method</dc:title>
</cp:coreProperties>
</file>